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16.jpeg" ContentType="image/jpeg"/>
  <Override PartName="/ppt/media/image15.png" ContentType="image/png"/>
  <Override PartName="/ppt/media/image1.png" ContentType="image/pn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9.wmf" ContentType="image/x-wmf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96DB-CF02-4080-80B5-F896B131F14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ип урока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зучение и первичное закрепление зна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8FE7-D2B6-4F8D-9C0A-B569F0F0E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4D8A-E5F8-49C2-A8B6-50D5527D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E1F7-0F40-4410-B89C-3A442EC53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086C-CD4E-4A32-9A6F-4E86DEDFE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413E-D7B7-4ED5-82CC-86829D6D2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A3C6C-5BC9-43F1-900E-9432E82E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89FE-21D8-4166-9A05-26D658CA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1F91-4A34-4A87-8DEB-9B12EE0C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3A247-1036-41DB-9464-5B0135BD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3EE1-A9E6-41A5-A6F7-760FAAAE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B71BA-4867-4284-B21C-68F48218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C25C-F38A-4768-A36F-7BE7A250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198C-2BF8-4859-B6B6-1ADE11C0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33B2-D5AB-4727-BCCD-1BABF82C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9F88F-5919-48D9-845E-C37591B3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C166-9D78-4D07-9BEB-8928F6B9B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737D5-EB58-48BE-BEB0-B8F2D0892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3995-A98E-416B-8F87-158ACAD2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FAC9-4538-488B-AC00-F3C7111F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FD76-C86A-4343-ABEA-1ED88187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BD80-2BD3-46AA-AEFE-879A3ED1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DC97-15F2-4729-81F3-CA50D553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1185-C6E4-4362-B7DC-DB4ABB0B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DCD7-DEB9-4370-9D48-AFC8F1B7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F568-C5D3-457F-B3BF-7562739342B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C34B-6103-4B88-BF90-F77AB2DC91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06D5-EDD1-48D3-BD02-694596EACB2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15F6-CED0-4FF7-9B47-A53DC1944B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олотое сечени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улида Н.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40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33520" indent="-533520" algn="ctr">
              <a:lnSpc>
                <a:spcPct val="7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еометрическая интерпрет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см. рис.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┴ AB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€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(угольник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ить АВ попол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= ½ АВ, С €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Е=ВС, 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€ А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Х=АЕ, Х € А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очка Х – точка золотого сеч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419720" y="1981080"/>
            <a:ext cx="4037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налитическое исслед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см. рис.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 теореме Пифагора, имеем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С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= АВ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+ ВС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АЕ+ ЕС)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= АВ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+ ВС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Е= АХ, ЕС= ВС=1/2АВ, (АХ+1/2 АВ)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= АВ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+ (1/2АВ)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Х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+ АХ*АВ+1/4АВ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= АВ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+1/4 АВ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 Х2+ АХ*АВ=АВ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        (:АВ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Х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В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+ AX*AB/AB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AB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AB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X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/AB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+AX/AB=1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X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AB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1-AX/AB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X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В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( AB-AX )/ AB,     (* A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AX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AB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)* AB= (BX * AB )/ AB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X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AB= BX,                  (: AX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X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 ( AB * AX )= BX/ AX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AX/ AB= BX/AX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ч.т.д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6B2C-3CF8-4D3A-8AFC-6485F58BD8C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исло, выражающее отношение золотого се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39610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усть АВ=1, АХ=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тогда ВХ= 1-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имеем золотую пропорцию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1= ( 1-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)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( AX/AB= BX/ AX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= 1-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x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²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+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х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- 1= 0   - уравнение золотой пропор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шение уравнения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² - 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= 1-4 (- 1) = 1+ 4= 5&gt; 0 (имеем два корня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=(- b-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)/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a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 (- 1- 5)/ 2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1.6&lt;0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=(- b+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D)/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a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(-1+ 5)/ 2~ 0.6&gt; 0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так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AX/AB~ 0.6 , BX/ AX~ 0.6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X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~ 0.6*АВ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    - аналитический способ нахождения точки золотого сечен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4000" y="1981080"/>
            <a:ext cx="3809880" cy="41148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35812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3048120"/>
            <a:ext cx="2909880" cy="1170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3581280"/>
            <a:ext cx="2374920" cy="129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320040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320040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24360" y="457092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АХ : АВ=ВХ : 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63440" y="524268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Х – точка золотого сеч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C096-2E60-4772-A8C9-7A800C6B098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актическое задание №1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4000" y="1981080"/>
            <a:ext cx="396396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3352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мерьте на своих рисунках отрезк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йдите и сравните отношения: АХ/ АВ и ВХ/ 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ли у вас получилось примерно 0.6, то поставьте в своих тетрадях рядом с чертежом оценку «5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46520" y="4114440"/>
          <a:ext cx="3809880" cy="198144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198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 flipV="1">
            <a:off x="6477120" y="44197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8458200" y="3352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8000280" y="38091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8077320" y="34282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7314480" y="41911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½ А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8000280" y="48769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½ А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6553080" y="4114800"/>
            <a:ext cx="190512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6400080" y="46483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77120" y="60958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48320" y="60958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8152560" y="6171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6552360" y="6171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4494960" y="6171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15000" y="617220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ис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CF1C-0DBA-4786-A4C9-956F12DE88E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актическое задание №2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чертите отрезок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йдите точку золотого сечения аналитическим способ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общите результаты, округлённые до цел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ую последовательность чисел вы увидел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в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646520" y="1981080"/>
          <a:ext cx="3810240" cy="1067040"/>
        </p:xfrm>
        <a:graphic>
          <a:graphicData uri="http://schemas.openxmlformats.org/drawingml/2006/table">
            <a:tbl>
              <a:tblPr/>
              <a:tblGrid>
                <a:gridCol w="992160"/>
                <a:gridCol w="912960"/>
                <a:gridCol w="952560"/>
                <a:gridCol w="95256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с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с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с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 с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4646520" y="4572000"/>
          <a:ext cx="3810240" cy="1523880"/>
        </p:xfrm>
        <a:graphic>
          <a:graphicData uri="http://schemas.openxmlformats.org/drawingml/2006/table">
            <a:tbl>
              <a:tblPr/>
              <a:tblGrid>
                <a:gridCol w="952560"/>
                <a:gridCol w="952560"/>
                <a:gridCol w="952560"/>
                <a:gridCol w="9525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см и 2 с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см и 3 с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см и 5 с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см и 8с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 txBox="1"/>
          <p:nvPr/>
        </p:nvSpPr>
        <p:spPr>
          <a:xfrm>
            <a:off x="5334120" y="3352680"/>
            <a:ext cx="2904840" cy="54612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; 3; 5; 8; 13; 21; 34; 55; ..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"/>
          <p:cNvSpPr/>
          <p:nvPr/>
        </p:nvSpPr>
        <p:spPr>
          <a:xfrm rot="701400">
            <a:off x="4114440" y="2514600"/>
            <a:ext cx="511200" cy="290520"/>
          </a:xfrm>
          <a:custGeom>
            <a:avLst/>
            <a:gdLst>
              <a:gd name="textAreaLeft" fmla="*/ 63720 w 511200"/>
              <a:gd name="textAreaRight" fmla="*/ 447480 w 511200"/>
              <a:gd name="textAreaTop" fmla="*/ 72720 h 290520"/>
              <a:gd name="textAreaBottom" fmla="*/ 218160 h 290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3316800">
            <a:off x="3581280" y="4741560"/>
            <a:ext cx="1371600" cy="333360"/>
          </a:xfrm>
          <a:custGeom>
            <a:avLst/>
            <a:gdLst>
              <a:gd name="textAreaLeft" fmla="*/ 171360 w 1371600"/>
              <a:gd name="textAreaRight" fmla="*/ 1200240 w 137160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19975800">
            <a:off x="3403080" y="4325760"/>
            <a:ext cx="2444760" cy="247680"/>
          </a:xfrm>
          <a:custGeom>
            <a:avLst/>
            <a:gdLst>
              <a:gd name="textAreaLeft" fmla="*/ 305640 w 2444760"/>
              <a:gd name="textAreaRight" fmla="*/ 2139480 w 2444760"/>
              <a:gd name="textAreaTop" fmla="*/ 61920 h 247680"/>
              <a:gd name="textAreaBottom" fmla="*/ 1857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F2FE-FCC9-403B-B06F-4B352922E3E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сторический материал о золотом сече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62160" y="1981080"/>
            <a:ext cx="4647960" cy="4648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нтерес к золотому сечению к началу эпохи Возрожд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 началу эпохи Возрождения усилился интерес к золотому сечению. Он был вызван, в первую очередь, многочисленными применениями золотого сечения, как в самой геометрии, так и в искусстве, особенно в архитектуре. Следствием этого явилось появление книги « Божественная пропорция», автором которой был крупнейший математик 15 века Лука Пачоли. В своём труде Пачоли приводит тринадцать свойств золотого сечения, которое он снабжает такими эпитетами, как «исключительное», «несказанное», «превосходнейшее», «замечательнейшее», «сверхъестественное» и т.д. Небезъинтересно, что иллюстрировал книгу один из инициаторов её написания, друг Пачоли, великий Леонардо да Винчи, который и ввёл термин «золотое сечение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»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387440" y="1981080"/>
            <a:ext cx="2401920" cy="1981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1828800" y="4343400"/>
            <a:ext cx="1584360" cy="19810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600200" y="3962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Лук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ачол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02720" y="6272280"/>
            <a:ext cx="19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Леонардо да Винч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72FF-3675-4AE8-B9A3-2C784AC688A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кспериме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40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каждом столе лист с десятью прямоугольниками, среди которых имеется и золото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ние учащимся (на слух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берите любой из десяти прямоугольник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мерьте его стон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йдите отношение меньшей стороны к больш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верка результа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бята, поднимите руки, у кого получилось примерно 0.6. Поставьте на полях своей тетради оценку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5»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64652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57800" y="2057400"/>
            <a:ext cx="304920" cy="1295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19500000">
            <a:off x="5562720" y="914040"/>
            <a:ext cx="1218960" cy="152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10280" y="3429000"/>
            <a:ext cx="1447920" cy="685800"/>
          </a:xfrm>
          <a:prstGeom prst="rect">
            <a:avLst/>
          </a:prstGeom>
          <a:solidFill>
            <a:srgbClr val="00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19025400">
            <a:off x="4800600" y="3580920"/>
            <a:ext cx="13716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19587600">
            <a:off x="7543440" y="837720"/>
            <a:ext cx="914400" cy="1295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864200">
            <a:off x="5638320" y="3429000"/>
            <a:ext cx="914400" cy="175248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76920" y="5257800"/>
            <a:ext cx="358128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131000">
            <a:off x="7238880" y="4190760"/>
            <a:ext cx="685800" cy="19047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48520" y="2286000"/>
            <a:ext cx="2057400" cy="914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AC42-4B92-4E7D-961B-C7B2843AD08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просы учащим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вы думаете, какой прямоугольник называется «золотым»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Стороны которого в отношении дают золотое сечение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де в жизни вы встречали «золотой» прямоугольни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Книги, почтовые открытки, бумажники, шоколадные плитки и множество других предметов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8E6D-896D-4CC0-A10B-F60E9B05534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менение золотого сечения в архитекту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436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Широкое применение находит золотое сечение в архитектуре. Множество архитектурных шедевров построено по пропорции золотого сеч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14882" r="0" b="5276"/>
          <a:stretch/>
        </p:blipFill>
        <p:spPr>
          <a:xfrm>
            <a:off x="5638680" y="1447920"/>
            <a:ext cx="2127240" cy="25556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rcRect l="0" t="0" r="0" b="62429"/>
          <a:stretch/>
        </p:blipFill>
        <p:spPr>
          <a:xfrm>
            <a:off x="990720" y="1905120"/>
            <a:ext cx="3200400" cy="200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9980-E90E-4EC1-A1FC-F35FA3CD58C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сследовательская работа</a:t>
            </a:r>
            <a:br>
              <a:rPr sz="40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ждая группа учащихся  получает карточку с изображением Великолепного Парфенона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ДАНИЕ.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сследовав строение  найти точку золотого сечения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 Проверка результатов исследовательской работы и их оценка в «5» баллов каждой группе верно выполнившей задание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 На экран проецируется верное решение задач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676520" y="1828800"/>
            <a:ext cx="19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1915" r="22736" b="0"/>
          <a:stretch/>
        </p:blipFill>
        <p:spPr>
          <a:xfrm>
            <a:off x="2971800" y="3048120"/>
            <a:ext cx="211932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E7DC-9511-4EC9-9D23-E45FFF6F391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верка примерных результатов исследовательской работ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ыставление баллов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сложить все «5», результат разделить на 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2026-E471-49E0-A63B-B5F4493C1C7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Цель зан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ведение понятия «золотое сечение»; «золотой прямоугольник»; формирование умений и навыков нахождения точки золотого сечения; повторение теоремы Пифаго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ирование качеств личности, необходимых человеку для полноценной жизни в современном обществе: ясность и точность мысли, критичность мышления. Интуиция, логическое мышление, элементы алгоритмической культуры, пространственных представлений, способность к преодолению трудностей, развитие навыков самостоятельной и исследовательской деятель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спитание культуры личности; отношения к математике и истории как к части общечеловеческой культуры; понимание значимости математики для научно-технического прогресса в архитектуре; воспитание ответственного отношения к учебному тру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D002-CF83-4896-973C-4AF7F76DFAB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лан работы на уро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4116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учение нового материа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сторический материал о золотом сечен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сследовательская раб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4646520" y="2768760"/>
            <a:ext cx="3810240" cy="25398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5943600" y="5486400"/>
            <a:ext cx="160956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. Прохладный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405B-311C-4ED1-B675-01BA8A0E865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машнее зад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0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рисовать фасад здания, с применением золотого сеч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йти в доме «золотой прямоугольник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181480" y="4724280"/>
          <a:ext cx="2895840" cy="1371600"/>
        </p:xfrm>
        <a:graphic>
          <a:graphicData uri="http://schemas.openxmlformats.org/drawingml/2006/table">
            <a:tbl>
              <a:tblPr/>
              <a:tblGrid>
                <a:gridCol w="289584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золотой прямоугольник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745240" y="1981080"/>
            <a:ext cx="161280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F4DD-423B-453E-9509-68F069772896}" type="slidenum">
              <a:t>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/>
                                  <p:tgtEl>
                                    <p:spTgt spid="10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зучение нового материа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зучение понятия «золотое сечение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еометрический способ нахождения точки «золотого сечения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налитический способ нахождения точки «золотого сечения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актические зад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B992-D997-4297-A362-446FD26BD6E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just"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зучение понятия «золотое сечение»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190760" y="1981080"/>
            <a:ext cx="42656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оганн Кеплер говорил, что геометрия владеет двумя сокровищами – теоремой Пифагора и золотым сечением. И если первое из них этих сокровищ можно сравнить с мерой золота, то второе – с драгоценным камн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066680" y="2133720"/>
            <a:ext cx="2943360" cy="336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17FE-6F11-41E4-A0DC-F6D89C2A636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ормулировки задачи о золотом сече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464976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орему Пифагора знает каждый школьник, а что такое золотое сечение – далеко не все. Вот и поговорим сегодня об этом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драгоценном камне в золотой оправе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668920" y="1981080"/>
            <a:ext cx="2643120" cy="325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26DB-B5C8-48F3-909F-62C06AC1440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словие 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838080" y="2133720"/>
          <a:ext cx="3757680" cy="38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33720"/>
                    <a:ext cx="3757680" cy="38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652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делить отрезок в среднем и крайнем отношен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делить отрезок гармоничес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йти золотое сечение отрез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делить данный отрезок на две части так, чтобы большая относилась у целому, как меньшая к больш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173640" y="4114800"/>
          <a:ext cx="2970360" cy="198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73640" y="4114800"/>
                    <a:ext cx="29703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2981160" y="2463840"/>
            <a:ext cx="3225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3048120"/>
            <a:ext cx="2909880" cy="11700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3581280"/>
            <a:ext cx="2374920" cy="129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24360" y="457092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АХ : АВ=ВХ : 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3440" y="524268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Х – точка золотого сеч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320040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320040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35812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CE52-147B-41F7-A3BF-0E91F420396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шение поставленной зада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резок А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йти точку Х-точку золотого сеч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ли разделить АВ в отношени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АХ:АВ:=ВХ:А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84360" y="4038120"/>
          <a:ext cx="3809880" cy="205776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205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 flipH="1" flipV="1">
            <a:off x="4342680" y="6171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608760" y="6171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590560" y="4038480"/>
            <a:ext cx="190476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2513880" y="4571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4114080" y="36568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495680" y="3276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4114080" y="31233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14600" y="60958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514600" y="44197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60958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2590920" y="6171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95680" y="6095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962520" y="47998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½ А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3351960" y="4114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½ А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28954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617220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ис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2AC7-4E87-431F-A0DE-CABB424B828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уклида Наталья Ивановна</dc:creator>
  <dc:description>Тип урока: комплексное применене знаний. Форма урока: стандартная. Вид учебного занятия: практикум. Формы работы с учащимися: фронтальная; коллективная; групповая; индивидуальная. Виды учебной деятельности учащихся на уроке: исследовательская работа; практиче</dc:description>
  <dc:language>en-US</dc:language>
  <cp:lastModifiedBy>Даша</cp:lastModifiedBy>
  <dcterms:modified xsi:type="dcterms:W3CDTF">2008-04-03T16:38:43Z</dcterms:modified>
  <cp:revision>145</cp:revision>
  <dc:subject>Золотое сечение (оккрытый урок в 9 "Б" классе)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