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74D-1816-468C-B8D8-2716A0C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A21-8E46-4F0C-9864-09929A5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232-4DCE-4E23-A0E2-323EA597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EED-EB16-413B-9C1E-13081251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7E2-654F-4E3C-86BA-A654CBC2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37F-C413-42B4-8B7D-58EDF210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295-89C5-4C51-A0D8-628A8BB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33B-B51C-461E-B9B7-02EE1457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626-7D4B-4708-B015-B89154D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A6E-2287-4729-B160-5D4A79A1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BFA2-10E8-461B-A8DF-C89ABFD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1A8-FB65-4A76-B600-A2A0E6FE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3C90-BB45-4966-B56D-EDDE0F3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1919-EB02-4272-B5F6-34C9CF0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7032-C45C-489F-B9BA-9A8D803B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22D0-DF83-4A25-816F-8540EFBF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7E92-9FBA-40F1-A408-0F8C3A7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71C-5A87-497C-917F-E0F709C3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E01-677B-4FF2-B70A-F794D7C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5EF-B52C-4D4A-A01B-194AB31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4C5-3C91-4C97-87E1-ADC0D73B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B98-BC94-4D84-A964-32A236E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979-7C64-4427-A839-A5EA54C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C82-0B75-4B50-A353-EE11377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779-66C1-4C7A-B943-92867613B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18F-D90A-4B42-814A-4325C7DAA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Разноуровневый мониторинг качества ЗУН обучающихс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454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4572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улида 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учитель математики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9cb5"/>
                </a:solidFill>
                <a:latin typeface="Tahoma"/>
              </a:rPr>
              <a:t>ЛИТЕРАТУРА, ИСПОЛЬЗУЕМАЯ В ЛИЦЕЕ ДЛЯ        МОНИТОРИНГА КАЧЕСТВА ЗНАНИЙ ПО МАТЕМАТИКЕ</a:t>
            </a:r>
            <a:endParaRPr b="0" lang="en-US" sz="2200" spc="-1" strike="noStrike">
              <a:solidFill>
                <a:srgbClr val="7b9cb5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1828800"/>
          <a:ext cx="7925040" cy="4743360"/>
        </p:xfrm>
        <a:graphic>
          <a:graphicData uri="http://schemas.openxmlformats.org/drawingml/2006/table">
            <a:tbl>
              <a:tblPr/>
              <a:tblGrid>
                <a:gridCol w="1676520"/>
                <a:gridCol w="5181480"/>
                <a:gridCol w="10670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ынов П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. 700 задач. Тесты. Итоговые контрольные работы 5-11 к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, 411,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ев В.А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материалы по геометрии для 7 класса (Погорелов  А.В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ев В.А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материалы по геометрии для 8 класса. (Погорелов  А.В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шова А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 и начала анализа. Самостоятельные и контрольные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хов В.И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материалы по алгебре. 8 класс.  (Макарычев Ю.Н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вич Л.И. и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материалы по алгебре. 7 класс. (Макарычев Ю.Н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вич Л.И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материалы «Алгебра и начала анализа. Геометрия 8 – 1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в Б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материалы «Алгебра и начала анализа. Геометрия 10-11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сникова Т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. экзаменационная работа. 9 класс типовые тестовые зад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ышова М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сам.  И  контр  работ к  учебникам  математики  5-6 кл. Г.Ф. Дорофеева, Л.Г. Петерсо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, 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сенко Ф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ительные испыт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ычев Ю.Н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по алгебре. 9 класс. (Макарычев Ю.Н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оль В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 для подготовки к ЕГЭ и централизованное тестиров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ноков А.С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по математике. 6 класс. (Виленкин Н.Я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ноков А.С.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по математике. 5 класс. (Виленкин Н.Я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 - 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шин 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тесты для подготовки к ЕГЭ по математ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85800" y="12193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ДИДАКТИЧЕСКИЕ МАТЕРИАЛЫ СОДЕРЖАТ В СЕБЕ РАЗЛИЧНЫЕ УРОВНИ СЛОЖНОСТИ ВАРИАНТОВ ЗАДАНИЙ, ЧТО ПОЗВОЛЯЕТ ПРИМЕНЯТЬ ЭЛЕМЕНТЫ РАЗНОУРОВНЕ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80880" y="380880"/>
            <a:ext cx="8305200" cy="5866560"/>
            <a:chOff x="380880" y="380880"/>
            <a:chExt cx="8305200" cy="5866560"/>
          </a:xfrm>
        </p:grpSpPr>
        <p:cxnSp>
          <p:nvCxnSpPr>
            <p:cNvPr id="86" name="_s9253"/>
            <p:cNvCxnSpPr>
              <a:stCxn id="87" idx="0"/>
              <a:endCxn id="88" idx="2"/>
            </p:cNvCxnSpPr>
            <p:nvPr/>
          </p:nvCxnSpPr>
          <p:spPr>
            <a:xfrm flipV="1">
              <a:off x="7440120" y="4046760"/>
              <a:ext cx="3240" cy="73404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" name="_s9251"/>
            <p:cNvCxnSpPr>
              <a:stCxn id="90" idx="0"/>
              <a:endCxn id="91" idx="2"/>
            </p:cNvCxnSpPr>
            <p:nvPr/>
          </p:nvCxnSpPr>
          <p:spPr>
            <a:xfrm flipH="1" flipV="1" rot="5400000">
              <a:off x="4250880" y="4248720"/>
              <a:ext cx="484560" cy="81000"/>
            </a:xfrm>
            <a:prstGeom prst="bentConnector3">
              <a:avLst>
                <a:gd name="adj1" fmla="val 23568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92" name="_s9249"/>
            <p:cNvCxnSpPr>
              <a:stCxn id="93" idx="0"/>
              <a:endCxn id="94" idx="2"/>
            </p:cNvCxnSpPr>
            <p:nvPr/>
          </p:nvCxnSpPr>
          <p:spPr>
            <a:xfrm flipV="1">
              <a:off x="1626120" y="4046760"/>
              <a:ext cx="3240" cy="73404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95" name="_s9247"/>
            <p:cNvCxnSpPr>
              <a:stCxn id="88" idx="0"/>
              <a:endCxn id="96" idx="2"/>
            </p:cNvCxnSpPr>
            <p:nvPr/>
          </p:nvCxnSpPr>
          <p:spPr>
            <a:xfrm flipV="1" rot="16200000">
              <a:off x="5379120" y="518760"/>
              <a:ext cx="1213200" cy="2910240"/>
            </a:xfrm>
            <a:prstGeom prst="bentConnector3">
              <a:avLst>
                <a:gd name="adj1" fmla="val 94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97" name="_s9246"/>
            <p:cNvCxnSpPr>
              <a:stCxn id="91" idx="0"/>
              <a:endCxn id="96" idx="2"/>
            </p:cNvCxnSpPr>
            <p:nvPr/>
          </p:nvCxnSpPr>
          <p:spPr>
            <a:xfrm flipV="1" rot="16200000">
              <a:off x="3925440" y="1972440"/>
              <a:ext cx="1213200" cy="3240"/>
            </a:xfrm>
            <a:prstGeom prst="bentConnector3">
              <a:avLst>
                <a:gd name="adj1" fmla="val 94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98" name="_s9245"/>
            <p:cNvCxnSpPr>
              <a:stCxn id="94" idx="0"/>
              <a:endCxn id="96" idx="2"/>
            </p:cNvCxnSpPr>
            <p:nvPr/>
          </p:nvCxnSpPr>
          <p:spPr>
            <a:xfrm flipH="1" flipV="1" rot="5400000">
              <a:off x="2471760" y="521640"/>
              <a:ext cx="1213200" cy="2904840"/>
            </a:xfrm>
            <a:prstGeom prst="bentConnector3">
              <a:avLst>
                <a:gd name="adj1" fmla="val 94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96" name="_s9241"/>
            <p:cNvSpPr/>
            <p:nvPr/>
          </p:nvSpPr>
          <p:spPr>
            <a:xfrm>
              <a:off x="839160" y="380880"/>
              <a:ext cx="7380000" cy="987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a8ad8"/>
              </a:solidFill>
              <a:miter/>
            </a:ln>
            <a:effectLst>
              <a:outerShdw dist="63504" dir="19383909" blurRad="0" rotWithShape="0">
                <a:srgbClr val="8a8ad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УРОВНИ УСВОЕНИЯ ЗУ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42"/>
            <p:cNvSpPr/>
            <p:nvPr/>
          </p:nvSpPr>
          <p:spPr>
            <a:xfrm>
              <a:off x="380880" y="2580840"/>
              <a:ext cx="2491560" cy="1466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ПЕРВ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9243"/>
            <p:cNvSpPr/>
            <p:nvPr/>
          </p:nvSpPr>
          <p:spPr>
            <a:xfrm>
              <a:off x="3287520" y="2580840"/>
              <a:ext cx="2491560" cy="1466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ВТОР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9244"/>
            <p:cNvSpPr/>
            <p:nvPr/>
          </p:nvSpPr>
          <p:spPr>
            <a:xfrm>
              <a:off x="6194520" y="2580840"/>
              <a:ext cx="2491560" cy="1466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ТРЕ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9248"/>
            <p:cNvSpPr/>
            <p:nvPr/>
          </p:nvSpPr>
          <p:spPr>
            <a:xfrm>
              <a:off x="380880" y="4780800"/>
              <a:ext cx="2491560" cy="1466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ЕПРОДУКТИВ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9250"/>
            <p:cNvSpPr/>
            <p:nvPr/>
          </p:nvSpPr>
          <p:spPr>
            <a:xfrm>
              <a:off x="3123360" y="4531320"/>
              <a:ext cx="2655720" cy="17161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ЕКОНСТРУ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ДЕЯТЕЛЬ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9252"/>
            <p:cNvSpPr/>
            <p:nvPr/>
          </p:nvSpPr>
          <p:spPr>
            <a:xfrm>
              <a:off x="6194520" y="4780800"/>
              <a:ext cx="2491560" cy="1466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ПРОДУ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7200" y="274680"/>
            <a:ext cx="8182800" cy="6125760"/>
            <a:chOff x="457200" y="274680"/>
            <a:chExt cx="8182800" cy="6125760"/>
          </a:xfrm>
        </p:grpSpPr>
        <p:cxnSp>
          <p:nvCxnSpPr>
            <p:cNvPr id="100" name="_s15366"/>
            <p:cNvCxnSpPr>
              <a:stCxn id="101" idx="0"/>
              <a:endCxn id="102" idx="2"/>
            </p:cNvCxnSpPr>
            <p:nvPr/>
          </p:nvCxnSpPr>
          <p:spPr>
            <a:xfrm flipV="1">
              <a:off x="7405920" y="3712680"/>
              <a:ext cx="3600" cy="17388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103" name="_s15367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350240" y="3798720"/>
              <a:ext cx="404640" cy="71640"/>
            </a:xfrm>
            <a:prstGeom prst="bentConnector3">
              <a:avLst>
                <a:gd name="adj1" fmla="val 28227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106" name="_s15368"/>
            <p:cNvCxnSpPr>
              <a:stCxn id="107" idx="0"/>
              <a:endCxn id="108" idx="2"/>
            </p:cNvCxnSpPr>
            <p:nvPr/>
          </p:nvCxnSpPr>
          <p:spPr>
            <a:xfrm flipV="1">
              <a:off x="1690920" y="3552120"/>
              <a:ext cx="3240" cy="87336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109" name="_s15369"/>
            <p:cNvCxnSpPr>
              <a:stCxn id="102" idx="0"/>
              <a:endCxn id="110" idx="2"/>
            </p:cNvCxnSpPr>
            <p:nvPr/>
          </p:nvCxnSpPr>
          <p:spPr>
            <a:xfrm flipV="1" rot="16200000">
              <a:off x="5563080" y="320040"/>
              <a:ext cx="845280" cy="2840760"/>
            </a:xfrm>
            <a:prstGeom prst="bentConnector3">
              <a:avLst>
                <a:gd name="adj1" fmla="val 143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111" name="_s15370"/>
            <p:cNvCxnSpPr>
              <a:stCxn id="105" idx="0"/>
              <a:endCxn id="110" idx="2"/>
            </p:cNvCxnSpPr>
            <p:nvPr/>
          </p:nvCxnSpPr>
          <p:spPr>
            <a:xfrm flipV="1" rot="16200000">
              <a:off x="4194720" y="1688400"/>
              <a:ext cx="764640" cy="23040"/>
            </a:xfrm>
            <a:prstGeom prst="bentConnector3">
              <a:avLst>
                <a:gd name="adj1" fmla="val 1582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112" name="_s15371"/>
            <p:cNvCxnSpPr/>
            <p:nvPr/>
          </p:nvCxnSpPr>
          <p:spPr>
            <a:xfrm flipH="1" flipV="1" rot="5400000">
              <a:off x="2472480" y="-86040"/>
              <a:ext cx="1281240" cy="2872440"/>
            </a:xfrm>
            <a:prstGeom prst="bentConnector3">
              <a:avLst>
                <a:gd name="adj1" fmla="val 9415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110" name="_s15372"/>
            <p:cNvSpPr/>
            <p:nvPr/>
          </p:nvSpPr>
          <p:spPr>
            <a:xfrm>
              <a:off x="911160" y="274680"/>
              <a:ext cx="7312320" cy="104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a8ad8"/>
              </a:solidFill>
              <a:miter/>
            </a:ln>
            <a:effectLst>
              <a:outerShdw dist="63504" dir="19383909" blurRad="0" rotWithShape="0">
                <a:srgbClr val="8a8ad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ВАРИАНТЫ ЗАДАН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373"/>
            <p:cNvSpPr/>
            <p:nvPr/>
          </p:nvSpPr>
          <p:spPr>
            <a:xfrm>
              <a:off x="457200" y="2001960"/>
              <a:ext cx="2468520" cy="1550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ПЕРВ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374"/>
            <p:cNvSpPr/>
            <p:nvPr/>
          </p:nvSpPr>
          <p:spPr>
            <a:xfrm>
              <a:off x="3351600" y="2082600"/>
              <a:ext cx="2471040" cy="1550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ВТОР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5375"/>
            <p:cNvSpPr/>
            <p:nvPr/>
          </p:nvSpPr>
          <p:spPr>
            <a:xfrm>
              <a:off x="6171480" y="2162880"/>
              <a:ext cx="2468520" cy="1550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242492"/>
              </a:solidFill>
              <a:miter/>
            </a:ln>
            <a:effectLst>
              <a:outerShdw dist="63504" dir="19383909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ТРЕ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376"/>
            <p:cNvSpPr/>
            <p:nvPr/>
          </p:nvSpPr>
          <p:spPr>
            <a:xfrm>
              <a:off x="457200" y="4425120"/>
              <a:ext cx="2468520" cy="1550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АНАЛИЗ-СИНТЕ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(ПО ОБРАЗЦ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И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АЛГОРИТМ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377"/>
            <p:cNvSpPr/>
            <p:nvPr/>
          </p:nvSpPr>
          <p:spPr>
            <a:xfrm>
              <a:off x="3200040" y="4037040"/>
              <a:ext cx="2631960" cy="2211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СРАВНЕНИ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ОБОЩЕНИ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КЛАССИФИК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(ПЕРЕНОС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В НОВЫЕ УСЛОВИЯ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5378"/>
            <p:cNvSpPr/>
            <p:nvPr/>
          </p:nvSpPr>
          <p:spPr>
            <a:xfrm>
              <a:off x="6171480" y="3886920"/>
              <a:ext cx="2468520" cy="2513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ВЫЯВЛЕНИ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ПОНИМАНИ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ОБЪЯС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ПРИЧИН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СЛЕД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СВЯЗ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(ТВОРЧЕСТВО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ИССЛЕДОВА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cb5"/>
                </a:solidFill>
                <a:latin typeface="Tahoma"/>
              </a:rPr>
              <a:t>КОНСТРУИРОВАНИЕ ЗАДАНИЙ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Индивидуальные дифференцированные уровневые зада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ифференцированные задания с адаптацие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ноуровневые тестовые зада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ноуровневые тематические контрольные рабо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9cb5"/>
                </a:solidFill>
                <a:latin typeface="Tahoma"/>
              </a:rPr>
              <a:t>ИНДИВИДУАЛЬНЫЕ ДИФФЕРЕНЦИРОВАННЫЕ ЗАД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кретн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ознанности 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ч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199680" y="1905480"/>
            <a:ext cx="5563440" cy="4037040"/>
            <a:chOff x="3199680" y="1905480"/>
            <a:chExt cx="5563440" cy="4037040"/>
          </a:xfrm>
        </p:grpSpPr>
        <p:sp>
          <p:nvSpPr>
            <p:cNvPr id="118" name="_s24602"/>
            <p:cNvSpPr/>
            <p:nvPr/>
          </p:nvSpPr>
          <p:spPr>
            <a:xfrm flipH="1">
              <a:off x="4723200" y="4257360"/>
              <a:ext cx="722160" cy="31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4601"/>
            <p:cNvSpPr/>
            <p:nvPr/>
          </p:nvSpPr>
          <p:spPr>
            <a:xfrm>
              <a:off x="3199680" y="4259160"/>
              <a:ext cx="1788480" cy="1608120"/>
            </a:xfrm>
            <a:prstGeom prst="ellipse">
              <a:avLst/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ТОР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«4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4600"/>
            <p:cNvSpPr/>
            <p:nvPr/>
          </p:nvSpPr>
          <p:spPr>
            <a:xfrm>
              <a:off x="6519240" y="4257360"/>
              <a:ext cx="72000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4599"/>
            <p:cNvSpPr/>
            <p:nvPr/>
          </p:nvSpPr>
          <p:spPr>
            <a:xfrm>
              <a:off x="6976800" y="4259160"/>
              <a:ext cx="1786320" cy="16833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ТРЕТ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«5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4598"/>
            <p:cNvSpPr/>
            <p:nvPr/>
          </p:nvSpPr>
          <p:spPr>
            <a:xfrm flipV="1">
              <a:off x="5982480" y="2939040"/>
              <a:ext cx="3672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4597"/>
            <p:cNvSpPr/>
            <p:nvPr/>
          </p:nvSpPr>
          <p:spPr>
            <a:xfrm>
              <a:off x="5104800" y="1905480"/>
              <a:ext cx="1829160" cy="13712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ПЕР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«3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4596"/>
            <p:cNvSpPr/>
            <p:nvPr/>
          </p:nvSpPr>
          <p:spPr>
            <a:xfrm>
              <a:off x="5028840" y="3504600"/>
              <a:ext cx="1699560" cy="1752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ЦВЕТ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ИГН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АРТОЧ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9cb5"/>
                </a:solidFill>
                <a:latin typeface="Tahoma"/>
              </a:rPr>
              <a:t>ДИФЕРЕНЦИРОВАННЫЕ </a:t>
            </a:r>
            <a:br>
              <a:rPr sz="3200"/>
            </a:br>
            <a:r>
              <a:rPr b="1" lang="en-US" sz="3200" spc="-1" strike="noStrike">
                <a:solidFill>
                  <a:srgbClr val="7b9cb5"/>
                </a:solidFill>
                <a:latin typeface="Tahoma"/>
              </a:rPr>
              <a:t>ЗАДАНИЯ С АДАПТАЦИЕЙ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2590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ОБУЧЕНИЕ 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МЕНИ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ЧАЩИХСЯ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РАБОТАТЬ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ПО ОБРАЗЦ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752480"/>
            <a:ext cx="5555520" cy="4494960"/>
            <a:chOff x="3276720" y="1752480"/>
            <a:chExt cx="5555520" cy="4494960"/>
          </a:xfrm>
        </p:grpSpPr>
        <p:cxnSp>
          <p:nvCxnSpPr>
            <p:cNvPr id="128" name="_s26652"/>
            <p:cNvCxnSpPr>
              <a:stCxn id="129" idx="1"/>
              <a:endCxn id="130" idx="2"/>
            </p:cNvCxnSpPr>
            <p:nvPr/>
          </p:nvCxnSpPr>
          <p:spPr>
            <a:xfrm flipV="1">
              <a:off x="3609360" y="5132160"/>
              <a:ext cx="2400120" cy="737280"/>
            </a:xfrm>
            <a:prstGeom prst="bentConnector4">
              <a:avLst>
                <a:gd name="adj1" fmla="val 90609"/>
                <a:gd name="adj2" fmla="val 75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6653"/>
            <p:cNvCxnSpPr>
              <a:stCxn id="130" idx="0"/>
              <a:endCxn id="132" idx="2"/>
            </p:cNvCxnSpPr>
            <p:nvPr/>
          </p:nvCxnSpPr>
          <p:spPr>
            <a:xfrm flipV="1" rot="16200000">
              <a:off x="5779800" y="4057560"/>
              <a:ext cx="423000" cy="36000"/>
            </a:xfrm>
            <a:prstGeom prst="bentConnector3">
              <a:avLst>
                <a:gd name="adj1" fmla="val 29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6654"/>
            <p:cNvCxnSpPr>
              <a:stCxn id="132" idx="0"/>
              <a:endCxn id="134" idx="2"/>
            </p:cNvCxnSpPr>
            <p:nvPr/>
          </p:nvCxnSpPr>
          <p:spPr>
            <a:xfrm flipH="1" flipV="1" rot="5400000">
              <a:off x="5801400" y="2768760"/>
              <a:ext cx="423000" cy="78840"/>
            </a:xfrm>
            <a:prstGeom prst="bentConnector3">
              <a:avLst>
                <a:gd name="adj1" fmla="val 29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26655"/>
            <p:cNvSpPr/>
            <p:nvPr/>
          </p:nvSpPr>
          <p:spPr>
            <a:xfrm>
              <a:off x="3276720" y="1752480"/>
              <a:ext cx="5555520" cy="84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КОНСТРУКЦИЯ КАРТОЧК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6656"/>
            <p:cNvSpPr/>
            <p:nvPr/>
          </p:nvSpPr>
          <p:spPr>
            <a:xfrm>
              <a:off x="4188240" y="3020040"/>
              <a:ext cx="3567240" cy="844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1. ВЫПОЛНИ ЗАДА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ПО АЛГОРИТМ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6657"/>
            <p:cNvSpPr/>
            <p:nvPr/>
          </p:nvSpPr>
          <p:spPr>
            <a:xfrm>
              <a:off x="3938040" y="4287600"/>
              <a:ext cx="4146480" cy="8449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2. ВЫПОЛНИ ЗАДА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ДРУГОЕ) ПО ОБРАЗЦ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6658"/>
            <p:cNvSpPr/>
            <p:nvPr/>
          </p:nvSpPr>
          <p:spPr>
            <a:xfrm>
              <a:off x="3609360" y="5487840"/>
              <a:ext cx="4807800" cy="759600"/>
            </a:xfrm>
            <a:prstGeom prst="roundRect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3. ОБЪЯСНИ ЗАД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(ДРУГОЕ) СОСЕД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0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ТЕСТОВЫЕ ЗАДАНИЕ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828800"/>
            <a:ext cx="2971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ЭКСПРЕСС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КОНТР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РОВ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СВО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ЧАЩИМИ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ОПРЕДЕЛЁН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УЧЕБ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80920" y="533520"/>
            <a:ext cx="5257800" cy="6018840"/>
            <a:chOff x="3580920" y="533520"/>
            <a:chExt cx="5257800" cy="6018840"/>
          </a:xfrm>
        </p:grpSpPr>
        <p:cxnSp>
          <p:nvCxnSpPr>
            <p:cNvPr id="138" name="_s31798"/>
            <p:cNvCxnSpPr>
              <a:stCxn id="139" idx="1"/>
              <a:endCxn id="140" idx="2"/>
            </p:cNvCxnSpPr>
            <p:nvPr/>
          </p:nvCxnSpPr>
          <p:spPr>
            <a:xfrm flipH="1" rot="10800000">
              <a:off x="3885480" y="5258160"/>
              <a:ext cx="2324880" cy="857880"/>
            </a:xfrm>
            <a:prstGeom prst="bentConnector4">
              <a:avLst>
                <a:gd name="adj1" fmla="val -4909"/>
                <a:gd name="adj2" fmla="val 762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1" name="_s31789"/>
            <p:cNvCxnSpPr>
              <a:stCxn id="140" idx="1"/>
              <a:endCxn id="142" idx="2"/>
            </p:cNvCxnSpPr>
            <p:nvPr/>
          </p:nvCxnSpPr>
          <p:spPr>
            <a:xfrm flipH="1" rot="10800000">
              <a:off x="3962160" y="4034880"/>
              <a:ext cx="2210760" cy="817920"/>
            </a:xfrm>
            <a:prstGeom prst="bentConnector4">
              <a:avLst>
                <a:gd name="adj1" fmla="val -5162"/>
                <a:gd name="adj2" fmla="val 750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3" name="_s31790"/>
            <p:cNvCxnSpPr>
              <a:stCxn id="142" idx="0"/>
              <a:endCxn id="144" idx="2"/>
            </p:cNvCxnSpPr>
            <p:nvPr/>
          </p:nvCxnSpPr>
          <p:spPr>
            <a:xfrm flipV="1" rot="16200000">
              <a:off x="5942160" y="2919960"/>
              <a:ext cx="421560" cy="39240"/>
            </a:xfrm>
            <a:prstGeom prst="bentConnector3">
              <a:avLst>
                <a:gd name="adj1" fmla="val 270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5" name="_s31791"/>
            <p:cNvCxnSpPr>
              <a:stCxn id="144" idx="0"/>
              <a:endCxn id="146" idx="2"/>
            </p:cNvCxnSpPr>
            <p:nvPr/>
          </p:nvCxnSpPr>
          <p:spPr>
            <a:xfrm flipH="1" flipV="1" rot="5400000">
              <a:off x="5943600" y="1613160"/>
              <a:ext cx="419040" cy="39240"/>
            </a:xfrm>
            <a:prstGeom prst="bentConnector3">
              <a:avLst>
                <a:gd name="adj1" fmla="val 273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6" name="_s31792"/>
            <p:cNvSpPr/>
            <p:nvPr/>
          </p:nvSpPr>
          <p:spPr>
            <a:xfrm>
              <a:off x="3580920" y="533520"/>
              <a:ext cx="5181120" cy="8751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РЕЗУЛЬТА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1793"/>
            <p:cNvSpPr/>
            <p:nvPr/>
          </p:nvSpPr>
          <p:spPr>
            <a:xfrm>
              <a:off x="3580920" y="1842120"/>
              <a:ext cx="5105160" cy="872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ВЫШ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ТИВАЦИИ К УЧ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1794"/>
            <p:cNvSpPr/>
            <p:nvPr/>
          </p:nvSpPr>
          <p:spPr>
            <a:xfrm>
              <a:off x="3580920" y="3150720"/>
              <a:ext cx="5181120" cy="872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. ВЫРАБАТЫВАЮТ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УСТОЙЧИВЫЕ З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1795"/>
            <p:cNvSpPr/>
            <p:nvPr/>
          </p:nvSpPr>
          <p:spPr>
            <a:xfrm>
              <a:off x="3962160" y="4459320"/>
              <a:ext cx="4496040" cy="784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. НАГЛЯДНАЯ КАРТ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УСВОЕНИЯ МАТЕРИА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31797"/>
            <p:cNvSpPr/>
            <p:nvPr/>
          </p:nvSpPr>
          <p:spPr>
            <a:xfrm>
              <a:off x="3885840" y="5680080"/>
              <a:ext cx="4952880" cy="872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. ОБУЧЕНИЕ САМООЦЕНКЕ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АМОАНАЛИЗУ, КОРРЕКЦИИ ОШИБ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cb5"/>
                </a:solidFill>
                <a:latin typeface="Tahoma"/>
              </a:rPr>
              <a:t>КОНТРОЛЬНЫЕ РАБО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ИМЕН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ОВЕР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СЕ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ЧЕСТВ 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РОВН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Н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667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ТРЕБ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АРИАТИВ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ИФФЕРЕНЦИРОВАН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ЗМОЖНОСТЬ ДОБРОВОЛЬНОГО ВЫБОРА ЗАДАНИЯ ОПРЕДЕЛЁННОГО УРОВНЯ СЛОЖ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ОРРЕЛЯЦИЯ ЗАДАНИЙ С ОЦЕНКАМИ «ОТЛИЧНО», «ХОРОШО», «УДОВЛЕТВОРИТЕЛЬНО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50440" y="533520"/>
            <a:ext cx="8042760" cy="5181480"/>
            <a:chOff x="550440" y="533520"/>
            <a:chExt cx="8042760" cy="5181480"/>
          </a:xfrm>
        </p:grpSpPr>
        <p:sp>
          <p:nvSpPr>
            <p:cNvPr id="151" name="_s41999"/>
            <p:cNvSpPr/>
            <p:nvPr/>
          </p:nvSpPr>
          <p:spPr>
            <a:xfrm flipH="1">
              <a:off x="3123720" y="2743200"/>
              <a:ext cx="884520" cy="8380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1998"/>
            <p:cNvSpPr/>
            <p:nvPr/>
          </p:nvSpPr>
          <p:spPr>
            <a:xfrm>
              <a:off x="550440" y="3276720"/>
              <a:ext cx="3619440" cy="2365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ba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. ШЕСТЬ ЗАДА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(ПО ДВА ЗАДАНИЯ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КАЖДЫЙ УРОВЕНЬ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РЕЙТИНГ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8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8000"/>
                  </a:solidFill>
                  <a:latin typeface="Tahoma"/>
                </a:rPr>
                <a:t>«3»: 13 – 11 БАЛ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66ff"/>
                  </a:solidFill>
                  <a:latin typeface="Tahoma"/>
                </a:rPr>
                <a:t>«4»: 16 – 14 БАЛ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ff3300"/>
                  </a:solidFill>
                  <a:latin typeface="Tahoma"/>
                </a:rPr>
                <a:t>«5»: 18 – 17 БАЛ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997"/>
            <p:cNvSpPr/>
            <p:nvPr/>
          </p:nvSpPr>
          <p:spPr>
            <a:xfrm>
              <a:off x="5697720" y="2743200"/>
              <a:ext cx="482400" cy="6094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1996"/>
            <p:cNvSpPr/>
            <p:nvPr/>
          </p:nvSpPr>
          <p:spPr>
            <a:xfrm>
              <a:off x="4491360" y="3276720"/>
              <a:ext cx="4101840" cy="243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ba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. ДВЕ ЧА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             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ОЦЕН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8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8000"/>
                  </a:solidFill>
                  <a:latin typeface="Tahoma"/>
                </a:rPr>
                <a:t>«3»: ВЫПОЛНЕНИЕ </a:t>
              </a:r>
              <a:r>
                <a:rPr b="1" lang="en-US" sz="2000" spc="-1" strike="noStrike">
                  <a:solidFill>
                    <a:srgbClr val="008000"/>
                  </a:solidFill>
                  <a:latin typeface="Tahoma"/>
                </a:rPr>
                <a:t>I</a:t>
              </a:r>
              <a:r>
                <a:rPr b="1" lang="ru-RU" sz="2000" spc="-1" strike="noStrike">
                  <a:solidFill>
                    <a:srgbClr val="008000"/>
                  </a:solidFill>
                  <a:latin typeface="Tahoma"/>
                </a:rPr>
                <a:t> Ч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66ff"/>
                  </a:solidFill>
                  <a:latin typeface="Tahoma"/>
                </a:rPr>
                <a:t>«4»: ОДНО ЗАД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ff"/>
                  </a:solidFill>
                  <a:latin typeface="Tahoma"/>
                </a:rPr>
                <a:t>             </a:t>
              </a:r>
              <a:r>
                <a:rPr b="1" lang="ru-RU" sz="2000" spc="-1" strike="noStrike">
                  <a:solidFill>
                    <a:srgbClr val="0066ff"/>
                  </a:solidFill>
                  <a:latin typeface="Tahoma"/>
                </a:rPr>
                <a:t>ИЗ </a:t>
              </a:r>
              <a:r>
                <a:rPr b="1" lang="en-US" sz="2000" spc="-1" strike="noStrike">
                  <a:solidFill>
                    <a:srgbClr val="0066ff"/>
                  </a:solidFill>
                  <a:latin typeface="Tahoma"/>
                </a:rPr>
                <a:t>II</a:t>
              </a:r>
              <a:r>
                <a:rPr b="1" lang="ru-RU" sz="2000" spc="-1" strike="noStrike">
                  <a:solidFill>
                    <a:srgbClr val="0066ff"/>
                  </a:solidFill>
                  <a:latin typeface="Tahoma"/>
                </a:rPr>
                <a:t> Ч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ff3300"/>
                  </a:solidFill>
                  <a:latin typeface="Tahoma"/>
                </a:rPr>
                <a:t>«5»: ДВА ЗАДА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Tahoma"/>
                </a:rPr>
                <a:t>            </a:t>
              </a:r>
              <a:r>
                <a:rPr b="1" lang="ru-RU" sz="2000" spc="-1" strike="noStrike">
                  <a:solidFill>
                    <a:srgbClr val="ff3300"/>
                  </a:solidFill>
                  <a:latin typeface="Tahoma"/>
                </a:rPr>
                <a:t>ИЗ </a:t>
              </a: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II</a:t>
              </a:r>
              <a:r>
                <a:rPr b="1" lang="ru-RU" sz="2000" spc="-1" strike="noStrike">
                  <a:solidFill>
                    <a:srgbClr val="ff3300"/>
                  </a:solidFill>
                  <a:latin typeface="Tahoma"/>
                </a:rPr>
                <a:t> Ч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995"/>
            <p:cNvSpPr/>
            <p:nvPr/>
          </p:nvSpPr>
          <p:spPr>
            <a:xfrm flipV="1">
              <a:off x="4571640" y="1447560"/>
              <a:ext cx="1440" cy="1112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1994"/>
            <p:cNvSpPr/>
            <p:nvPr/>
          </p:nvSpPr>
          <p:spPr>
            <a:xfrm>
              <a:off x="1917360" y="533520"/>
              <a:ext cx="5871600" cy="92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ba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ТИПЫ КОНТРОЛЬНЫХ РАБ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1993"/>
            <p:cNvSpPr/>
            <p:nvPr/>
          </p:nvSpPr>
          <p:spPr>
            <a:xfrm>
              <a:off x="2239200" y="1828800"/>
              <a:ext cx="5388480" cy="838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24249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914400" indent="-457200" algn="ctr">
                <a:lnSpc>
                  <a:spcPct val="100000"/>
                </a:lnSpc>
                <a:buClr>
                  <a:srgbClr val="000000"/>
                </a:buClr>
                <a:buFont typeface="Tahoma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ВЫБОР ВАРИАНТА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РРЕЛИРУЕМОГО </a:t>
              </a:r>
              <a:r>
                <a:rPr b="1" lang="en-US" sz="2000" spc="-1" strike="noStrike">
                  <a:solidFill>
                    <a:srgbClr val="008000"/>
                  </a:solidFill>
                  <a:latin typeface="Tahoma"/>
                </a:rPr>
                <a:t>«3»,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66ff"/>
                  </a:solidFill>
                  <a:latin typeface="Tahoma"/>
                </a:rPr>
                <a:t>«4»,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ahoma"/>
                </a:rPr>
                <a:t>«5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08-02-23T15:36:34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